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B82-2C2B-45CD-86C2-F30C9A70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0C9-82DF-41A4-89D7-B95104C1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B09-C3B9-4452-BCDF-D7CB03CB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D72-7397-4E7D-97EC-7A12877F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E84-E50E-4A61-81AC-79513594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9DC-A371-4695-9C09-F6B295C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9F5-9A09-49A9-8246-C42700B1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75F-27E1-43A7-BC19-B64A314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A2F-26F0-46B6-92E6-4A222726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FB9-301C-4632-87B8-B9A003F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7BF-0A33-41E5-A52B-B89AA23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916-B2A2-432D-9A42-63E3D50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B7C6-97C2-4446-8B70-013F350E3AA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4 Na kríži miesto mň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miesto mň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mrel môj Pá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hriechov ma obmyl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v jeho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áčať chcem vždy za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svojím spase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jemu zasvät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, č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Krista na sve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ím by som bol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On ma z hriechu pú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vytrh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môj Boh a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blaho, pokoj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ňho sa spolieh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 stíšiť bô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o drahšie 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ateľstvo s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mu sa so všetk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zdôver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mojím radc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mojich strastiach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bre mi rozum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ím zvíťaz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i podobný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l by so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ichosťou, pokor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ozdo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preňho prac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 ho mi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žnym ho zvest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neho ž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02:16Z</dcterms:modified>
  <cp:revision>27</cp:revision>
  <dc:subject/>
  <dc:title>Je veľký náš Pán, on slávy je Kráľ Nech do všetkých strán  spev vrúcnych znie chvál.</dc:title>
</cp:coreProperties>
</file>